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131FD-02DD-4CA8-A1B2-FE2B25A358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F7063-5568-4C6B-9C18-6787F16E8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711F8-421E-4BA1-9374-7A6AE5C8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64BF2-3B37-479C-8771-F871C40BBA3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237F-9A11-4CF2-9218-C92804C3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CDED8-7CEA-48E1-9E0D-395CBE650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B81F-C911-48E2-A903-6100C308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414C-5A0D-4EC3-B47B-171F6F83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32261F-0933-4F91-858F-16662A27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629F-2987-4311-8768-B938AB33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806A5-7A1B-47C4-A05F-410F239B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A65D5-21F2-4CF3-8186-C89A5B2E6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C395-36A4-4A85-939E-A3B50C7A362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六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脓胸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双侧急性脓胸，入院后行双侧胸膜腔闭式引流，并给予抗炎、补液治疗，每天行胸膜腔冲洗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后，胸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显示胸膜腔积液消失，患者痊愈出院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的护理要点有哪些？②如何对该患者进行健康教育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炎症刺激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及肺扩张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膜腔感染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呼吸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吸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协助医师进行胸膜腔穿刺抽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温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监测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训练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活动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慢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hronic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的病程长达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，可由急性脓胸发展而来，也可因脓腔内异物存留或与胸膜腔毗邻的慢性病灶而形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出现低热、乏力、消瘦、贫血、低蛋白血症等慢性消耗症状；有时可伴气促、咳嗽、咳脓痰等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廓内陷，呼吸运动减弱，肋间隙变窄，支气管及纵隔偏向患侧；听诊呼吸音减弱或消失；可有杵状指（趾）、脊柱侧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患者全身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灭脓腔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恢复肺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脓胸、局限性脓胸、全脓胸、脓气胸的概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急性脓胸、慢性脓胸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比较急性脓胸与慢性脓胸的临床表现、治疗原则、护理要点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脓胸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脓液积聚压迫肺组织、胸廓运动受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营养摄入不足、代谢增加、消耗增加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出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反常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胸膜腔内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慢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需采取正直姿势，坚持练习头部前后左右回转运动，练习上半身的前屈运动及左右弯曲运动，使之恢复到健康时的活动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行呼吸功能训练和有氧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急性脓胸主要继发于肺部感染；慢性脓胸可由急性脓胸发展而来，也可因脓腔内异物存留或与胸膜腔毗邻的慢性病灶而形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表现为体温升高、呼吸急促、食欲减退、胸痛、乏力、呼吸运动减弱等。急性脓胸肋间隙饱满，叩诊呈浊音；慢性脓胸胸廓内陷，肋间隙变窄，支气管及纵隔偏向患侧，可有杵状指（趾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控制感染，改善全身情况，排出胸膜腔脓液，必要时手术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  加强营养，改善呼吸功能，做好胸膜腔闭式引流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结核性胸膜炎突发高热、气促、咳脓痰，在当地医院治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未见好转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8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9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疲乏无力，精神不振，右侧胸腔叩诊呈浊音，听诊呼吸音减弱、大量痰鸣音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检查：右侧胸膜腔大量积液，纵隔左移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右侧胸膜腔穿刺抽出脓性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诊断为结核性脓胸，给予抗结核治疗，并抽取积液，行胸膜腔冲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如何改善患者的呼吸功能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存在“体温过高：与感染有关”；右侧胸膜腔大量积液，呼吸音减弱，存在“气体交换障碍：与脓液压迫肺组织有关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改善患者的呼吸功能：协助患者取半坐卧位，以利于患者呼吸；给患者吸氧，氧流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~4L/min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鼓励患者咳嗽、咳痰，痰液粘稠不易咳出时行雾化吸入，以促进痰液排出；协助医师进行胸膜腔穿刺抽脓和冲洗，以排出脓液，降低胸膜腔内的压力，促进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多为继发性感染，主要的原发病灶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纵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膈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急性脓胸的临床表现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、脉快、呼吸急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闷、咳嗽、咳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侧呼吸运动减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叩诊呈鼓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听诊呼吸音减弱或消失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慢性脓胸的病程一般长达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及以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A    2. D   3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03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脓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empyem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多为继发性感染，主要的原发病灶是肺部，少数是胸内和纵隔内其他脏器或身体其他部位感染病灶。常见致病菌为金黄色葡萄球菌和革兰阴性杆菌；结核分枝杆菌和真菌少见。若为厌氧菌感染，则称为腐败性脓胸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因高热、胸痛、呼吸困难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入院。入院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饮酒后呕吐物误吸入肺内导致肺内感染，持续高热、寒战，静滴抗生素无效，并出现胸痛、呼吸困难、咳嗽、咳黄色脓臭痰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9.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清合作，表情痛苦，呼吸运动减弱，肋间隙饱满，叩诊呈鼓音，听诊呼吸音减弱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双侧胸膜腔大量积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常规：白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.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en-US" sz="24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8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膜腔穿刺：抽出黄色脓液。脓液细菌培养为金黄色葡萄球菌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如何对该患者进行护理评估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有高热、脉快、呼吸急促、食欲减退、胸痛及全身乏力等不适，积脓较多者尚有胸闷、咳嗽、咳痰等症状，甚至发绀和休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呼吸运动减弱，肋间隙饱满，叩诊呈浊音，听诊呼吸音减弱或消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脓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排尽胸膜腔积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支持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5-24T13:03:11Z</dcterms:modified>
  <cp:revision>87</cp:revision>
  <dc:subject/>
  <dc:title>内科护理学</dc:title>
</cp:coreProperties>
</file>